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52B-B3D9-4606-A93C-7239CF10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415-B30F-4312-96A5-05F33009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694-8B29-4958-8128-3C18F40F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7F09-AF07-42A3-A8EE-A547DF42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A58-AB24-44EC-BE64-DA0E6063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4C2-51F8-40AD-B8C1-711A608A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B4B-B60B-4074-A73F-0560990F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9D9-5685-4518-9335-E47C5277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557-22A3-458E-8EA3-AD32AC1A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EBF-7AB8-4DCE-BFB4-A4055DA5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7B1-7216-481C-993B-09C4AB48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252-0BB8-4ABA-82C4-C510EF60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BA43-739E-49BF-B70E-34A593376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705720" y="2666880"/>
            <a:ext cx="2438280" cy="171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77120" y="4835520"/>
            <a:ext cx="2666880" cy="1946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2057400" cy="1762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4925880"/>
            <a:ext cx="2438280" cy="1932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362400" y="4952880"/>
            <a:ext cx="258120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048120" y="76320"/>
            <a:ext cx="1143000" cy="1844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130640" y="76320"/>
            <a:ext cx="2041560" cy="1920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629400" y="103320"/>
            <a:ext cx="2438280" cy="1649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80880" y="76320"/>
            <a:ext cx="965160" cy="99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914400" y="1066680"/>
            <a:ext cx="990720" cy="944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1560600" y="76320"/>
            <a:ext cx="954000" cy="99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3429000" y="2468520"/>
            <a:ext cx="22860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24080" y="2560680"/>
            <a:ext cx="2971800" cy="193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429000" y="4997520"/>
            <a:ext cx="2438280" cy="1784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2743200"/>
            <a:ext cx="281952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102440" y="0"/>
            <a:ext cx="1422360" cy="213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505320" y="0"/>
            <a:ext cx="2286000" cy="2111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553080" y="2533680"/>
            <a:ext cx="1828800" cy="1352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7848720" y="3581280"/>
            <a:ext cx="1218960" cy="838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6477120" y="5121360"/>
            <a:ext cx="2666880" cy="1736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0" y="5106960"/>
            <a:ext cx="25909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05320" y="376200"/>
            <a:ext cx="2590560" cy="1668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553080" y="219240"/>
            <a:ext cx="2590920" cy="1685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705720" y="4776840"/>
            <a:ext cx="2438280" cy="2081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513072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200400" y="5022720"/>
            <a:ext cx="2819520" cy="183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553080" y="2579760"/>
            <a:ext cx="2590920" cy="1687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862360" cy="2143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0" y="2666880"/>
            <a:ext cx="2619360" cy="1760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3657600" y="2514600"/>
            <a:ext cx="1962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2-01T18:43:22Z</dcterms:modified>
  <cp:revision>16</cp:revision>
  <dc:subject/>
  <dc:title>Slide 1</dc:title>
</cp:coreProperties>
</file>